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844A-FA6F-481D-A29E-7F701DC16C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9919-5E7A-4996-AC28-4B95425495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CED-AAED-4185-B8EC-950AE373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060-AB39-4825-B115-B77CAB52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F53-06D4-453C-8025-C123D6B6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A36-E4D7-4E9C-97E1-15F60427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BD38-7CE7-4BD8-85C9-D1392F51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E21E-FC00-4ECD-94EB-AF93AE7F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159E-79A9-417E-9E9A-0CCB1ACD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834B-5ACD-4D99-8F9F-BAFB4FEE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6B34-E345-4A7D-A8D4-A5CF20CC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F8FB-43FE-49A8-966A-2AC75A64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2F00-7689-4884-9FC4-9E45ED18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FE0-E175-474A-89FC-6B01C0D4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ED9F-5000-46D3-8CB9-675B325E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1B3D-7938-4BA7-8E18-4E726124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3936-D4CA-4243-8446-F48AADA4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8708-6C6D-456B-87BE-E4D6378B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65F3-FC95-499F-8D9A-469BAD70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BD040-A900-4454-ACDA-12954389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CCD4-8B68-4A5D-BB17-844F4A54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09F5-6E1F-44A4-BABB-5ED0B136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9CB8-5C71-44F8-A55F-94F093D3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8094D-DE53-4A71-8DC3-621FA06B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7AB-FB69-4EDD-99F8-D98058E0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AA1C5-5DA0-4D37-8F1C-72454EDE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6BB72-8DC4-4593-A035-FF91B489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164AD-5D92-42B6-BB89-AAC14956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3418-1ACA-44ED-BE9C-5A862605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5ECA-CF91-48E8-BAAC-2C4A71BF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9F2A7-8D34-4424-A5B2-0763AC09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2373-ABFD-42E4-9EB3-6B4538D3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5F7C4-A573-45BF-9748-875B2D76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6B25-02A3-4453-BF50-A03FB754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0F659-5D57-4826-8F28-DF0D2EEE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2D00-5C79-41ED-8967-255BE0DF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D9E94-F932-4AD2-AAA5-9A62BF7C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8B5CF-58FF-41A8-B542-B8448D03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16A71-9473-41A2-B951-9073E1CD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BAA31-709D-4045-8B0D-0D5E4593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C0EB-2BA6-409E-B0E2-D9783B78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17E3-039A-4388-8AE2-795945CD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F2B8-DBEE-4FF3-8A8C-2C22D0DE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87A3A-0D7D-4143-8936-651C9FAE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6C928-97FE-418D-BE69-F34624A2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B62-692F-4D5E-9690-1E592970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E67-28E8-487E-8B65-8F923AA5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1C5-B112-48FD-8622-C8259627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9BB-444B-4E62-BCC0-A50E56C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F06-F7AD-4C8A-B35E-2C2208D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123E-60EF-47FF-9BC7-81808BC3CBF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41BF-7077-49AE-B347-6D040F30BC6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D89A-F35F-4382-8FE4-9F3D3221D8B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EEB6-FFCC-4B54-8701-7D2F59BA2B4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D:\Фотки\Братик\Костян\Тур де Франс\Фото\042ad93ad7b7.jpg"/>
          <p:cNvPicPr/>
          <p:nvPr/>
        </p:nvPicPr>
        <p:blipFill>
          <a:blip r:embed="rId1"/>
          <a:stretch/>
        </p:blipFill>
        <p:spPr>
          <a:xfrm>
            <a:off x="214200" y="1592280"/>
            <a:ext cx="3473640" cy="4867200"/>
          </a:xfrm>
          <a:prstGeom prst="rect">
            <a:avLst/>
          </a:prstGeom>
          <a:ln w="0">
            <a:noFill/>
          </a:ln>
        </p:spPr>
      </p:pic>
      <p:pic>
        <p:nvPicPr>
          <p:cNvPr id="203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ект выполнил ученик 10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рпов Вла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тория Тур де Фран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ноябре 1902 года </a:t>
            </a:r>
            <a:r>
              <a:rPr b="0" lang="ru-RU" sz="2200" spc="-1" strike="noStrike">
                <a:solidFill>
                  <a:srgbClr val="009dd9"/>
                </a:solidFill>
                <a:latin typeface="Constantia"/>
              </a:rPr>
              <a:t>Анри Дегранж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главный редактор ежедневной спортивной газеты «Авто», вынашивал план избавления от конкурента — газеты «Вело». «Что, если организовать велогонку по Франции?» — эта идея, выдвинутая сотрудником «Авто», молодым журналистом по имени </a:t>
            </a:r>
            <a:r>
              <a:rPr b="0" lang="ru-RU" sz="2200" spc="-1" strike="noStrike">
                <a:solidFill>
                  <a:srgbClr val="009dd9"/>
                </a:solidFill>
                <a:latin typeface="Constantia"/>
              </a:rPr>
              <a:t>Жео Лефевр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сначала показалась неосуществимой. Но скоро ее взяли на вооружение. И </a:t>
            </a:r>
            <a:r>
              <a:rPr b="0" lang="ru-RU" sz="2200" spc="-1" strike="noStrike">
                <a:solidFill>
                  <a:srgbClr val="009dd9"/>
                </a:solidFill>
                <a:latin typeface="Constantia"/>
              </a:rPr>
              <a:t>1 июля 1903 года в 15 часов 16 </a:t>
            </a:r>
            <a:r>
              <a:rPr b="0" lang="ru-RU" sz="22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минут</a:t>
            </a:r>
            <a:r>
              <a:rPr b="0" lang="ru-RU" sz="2200" spc="-1" strike="noStrike">
                <a:solidFill>
                  <a:srgbClr val="009dd9"/>
                </a:solidFill>
                <a:latin typeface="Constantia"/>
              </a:rPr>
              <a:t> 60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профессиональных спортсменов и велосипедистов-любителей отправились из Парижа в трехнедельное путешествие протяженностью 2428 километров. Так родилась велогонка </a:t>
            </a:r>
            <a:r>
              <a:rPr b="0" lang="ru-RU" sz="2200" spc="-1" strike="noStrike">
                <a:solidFill>
                  <a:srgbClr val="cc0000"/>
                </a:solidFill>
                <a:latin typeface="Constantia"/>
              </a:rPr>
              <a:t>«Тур де Франс»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Сегодня длина трассы «Тур де Франс», как правило, составляет порядка 3 600 километров, а все этапы гонки участники проходят за 20 дн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Tour_de_france"/>
          <p:cNvPicPr/>
          <p:nvPr/>
        </p:nvPicPr>
        <p:blipFill>
          <a:blip r:embed="rId1"/>
          <a:stretch/>
        </p:blipFill>
        <p:spPr>
          <a:xfrm>
            <a:off x="6029280" y="0"/>
            <a:ext cx="3114720" cy="3143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рганиза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85840" y="264312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Constantia"/>
              </a:rPr>
              <a:t>Ту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гонка, разделенная на множество этапов. Каждый этап длится один день. Каждый гонщик должен закончить этап, чтобы его время было зарегистрировано и накоплено. Ранжирование гонщиков согласно накопленному времени называется </a:t>
            </a:r>
            <a:r>
              <a:rPr b="0" lang="ru-RU" sz="2600" spc="-1" strike="noStrike">
                <a:solidFill>
                  <a:srgbClr val="cc0000"/>
                </a:solidFill>
                <a:latin typeface="Constantia"/>
              </a:rPr>
              <a:t>Генеральная Классификац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Победителем всего Тура становится тот гонщик, суммарное время (т.е. сумма времён всех этапов) которого является наименьшим среди всех участник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carte_2007_432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3068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тапы</a:t>
            </a: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ур состоит из 21 этапа. Полная длина гонки находится между 3000 и 4000 к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ольшинство этапов Тура проводится во Франции, хотя некоторые этапы проводятся в соседних с Францией странах: Италии, Испании, Швейцарии, Бельгии, Люксембурге и Герман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изовые майк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1671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643120" y="1676520"/>
            <a:ext cx="60436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Желтая май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символизирует лидера Tour de Franc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елую майку в красный горох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носит "горный король" Тура.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елую майку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носит лучший молодой гонщик (моложе 25 лет на 1 января того года, в котором проходит гонка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Содержимое 3" descr="http://dneprovelotravel.narod.ru/bike_and_travel.files/TdF_history/yellow.jpg"/>
          <p:cNvPicPr/>
          <p:nvPr/>
        </p:nvPicPr>
        <p:blipFill>
          <a:blip r:embed="rId1"/>
          <a:stretch/>
        </p:blipFill>
        <p:spPr>
          <a:xfrm>
            <a:off x="928800" y="1714680"/>
            <a:ext cx="857160" cy="10000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http://dneprovelotravel.narod.ru/bike_and_travel.files/TdF_history/mou.jpg"/>
          <p:cNvPicPr/>
          <p:nvPr/>
        </p:nvPicPr>
        <p:blipFill>
          <a:blip r:embed="rId2"/>
          <a:stretch/>
        </p:blipFill>
        <p:spPr>
          <a:xfrm>
            <a:off x="857160" y="278604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http://dneprovelotravel.narod.ru/bike_and_travel.files/TdF_history/white.jpg"/>
          <p:cNvPicPr/>
          <p:nvPr/>
        </p:nvPicPr>
        <p:blipFill>
          <a:blip r:embed="rId3"/>
          <a:stretch/>
        </p:blipFill>
        <p:spPr>
          <a:xfrm>
            <a:off x="857160" y="3786120"/>
            <a:ext cx="949320" cy="9032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2643120" y="1676520"/>
            <a:ext cx="60436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пулярность велогон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ур очень популярен и важен во Франции не только как спортивное событие. Французы считают его национальной гордостью. Любой французский гонщик, который выиграл Тур, становится объектом общественного обожания на родин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" descr="D:\Фотки\Братик\Костян\Тур де Франс\Фото\tour_de_france20090718183736.jpg"/>
          <p:cNvPicPr/>
          <p:nvPr/>
        </p:nvPicPr>
        <p:blipFill>
          <a:blip r:embed="rId1"/>
          <a:stretch/>
        </p:blipFill>
        <p:spPr>
          <a:xfrm>
            <a:off x="2000160" y="4214880"/>
            <a:ext cx="5248440" cy="264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180036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Директоры: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Рисунок 4" descr="http://dneprovelotravel.narod.ru/bike_and_travel.files/TdF_history/desgrange.jpg"/>
          <p:cNvPicPr/>
          <p:nvPr/>
        </p:nvPicPr>
        <p:blipFill>
          <a:blip r:embed="rId1"/>
          <a:stretch/>
        </p:blipFill>
        <p:spPr>
          <a:xfrm>
            <a:off x="179280" y="907920"/>
            <a:ext cx="1011240" cy="1079640"/>
          </a:xfrm>
          <a:prstGeom prst="rect">
            <a:avLst/>
          </a:prstGeom>
          <a:ln w="0">
            <a:noFill/>
          </a:ln>
        </p:spPr>
      </p:pic>
      <p:pic>
        <p:nvPicPr>
          <p:cNvPr id="225" name="Содержимое 5" descr="http://dneprovelotravel.narod.ru/bike_and_travel.files/TdF_history/goddet.jpg"/>
          <p:cNvPicPr/>
          <p:nvPr/>
        </p:nvPicPr>
        <p:blipFill>
          <a:blip r:embed="rId2"/>
          <a:stretch/>
        </p:blipFill>
        <p:spPr>
          <a:xfrm>
            <a:off x="179280" y="2060640"/>
            <a:ext cx="1008000" cy="10792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6" descr="http://dneprovelotravel.narod.ru/bike_and_travel.files/TdF_history/levitan.jpg"/>
          <p:cNvPicPr/>
          <p:nvPr/>
        </p:nvPicPr>
        <p:blipFill>
          <a:blip r:embed="rId3"/>
          <a:stretch/>
        </p:blipFill>
        <p:spPr>
          <a:xfrm>
            <a:off x="179280" y="3213000"/>
            <a:ext cx="979560" cy="11527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http://dneprovelotravel.narod.ru/bike_and_travel.files/TdF_history/leblanc.jpg"/>
          <p:cNvPicPr/>
          <p:nvPr/>
        </p:nvPicPr>
        <p:blipFill>
          <a:blip r:embed="rId4"/>
          <a:stretch/>
        </p:blipFill>
        <p:spPr>
          <a:xfrm>
            <a:off x="179280" y="4437000"/>
            <a:ext cx="992160" cy="12254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http://dneprovelotravel.narod.ru/bike_and_travel.files/TdF_history/Prud.jpg"/>
          <p:cNvPicPr/>
          <p:nvPr/>
        </p:nvPicPr>
        <p:blipFill>
          <a:blip r:embed="rId5"/>
          <a:stretch/>
        </p:blipFill>
        <p:spPr>
          <a:xfrm>
            <a:off x="179280" y="5734080"/>
            <a:ext cx="963720" cy="1123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928800"/>
            <a:ext cx="70135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03 - 1939 - Анри Дегранж (Henri Desgrange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Прямоугольник 9"/>
          <p:cNvSpPr/>
          <p:nvPr/>
        </p:nvSpPr>
        <p:spPr>
          <a:xfrm>
            <a:off x="1500120" y="228600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47 - 1961 - Жак Годде (Jacques Godde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1357200" y="4005720"/>
            <a:ext cx="77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89 - по 27 октября 2005 - Жан-Мари Леблан (Jean-Marie Lebla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1"/>
          <p:cNvSpPr/>
          <p:nvPr/>
        </p:nvSpPr>
        <p:spPr>
          <a:xfrm>
            <a:off x="1500120" y="35719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62 - 1986 - Феликс Левитан (Felix Levitan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1800" y="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4"/>
          <p:cNvSpPr/>
          <p:nvPr/>
        </p:nvSpPr>
        <p:spPr>
          <a:xfrm>
            <a:off x="1428840" y="592920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 27 октября 2005 - по настоящее время - Кристиан Прудом (Christian Prudhomme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ru.wikipedia.org/wiki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http://www.eventguide.ru/event/10702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http://blog.ebike.ru/wps/2008/02/20/istoriya-tur-de-frans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J:\Тур де Франс\Фото\8e3a2954ec47.jpg"/>
          <p:cNvPicPr/>
          <p:nvPr/>
        </p:nvPicPr>
        <p:blipFill>
          <a:blip r:embed="rId1"/>
          <a:stretch/>
        </p:blipFill>
        <p:spPr>
          <a:xfrm>
            <a:off x="1571760" y="2500200"/>
            <a:ext cx="5810040" cy="4176720"/>
          </a:xfrm>
          <a:prstGeom prst="rect">
            <a:avLst/>
          </a:prstGeom>
          <a:ln w="0">
            <a:noFill/>
          </a:ln>
        </p:spPr>
      </p:pic>
      <p:pic>
        <p:nvPicPr>
          <p:cNvPr id="238" name="Заголовок 1" descr=""/>
          <p:cNvPicPr/>
          <p:nvPr/>
        </p:nvPicPr>
        <p:blipFill>
          <a:blip r:embed="rId2"/>
          <a:stretch/>
        </p:blipFill>
        <p:spPr>
          <a:xfrm>
            <a:off x="298440" y="493560"/>
            <a:ext cx="8169120" cy="14446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09-11-17T18:03:26Z</dcterms:modified>
  <cp:revision>15</cp:revision>
  <dc:subject/>
  <dc:title>LE TOUR DE FRANCE</dc:title>
</cp:coreProperties>
</file>